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4F44-007D-4A88-A7BA-93EC21CCC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5473-2FD5-4DE1-990B-A82B16A4C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1644-CD67-41CA-BDFB-5B8DB0595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784B-685C-4DDE-816C-79ECA1053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25A2F-E2CD-43C9-A146-4DA1B0D6A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84F52-04DA-4EEB-A30A-9DD89A319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70B56-0A77-4C1D-8E8F-D744AB3EB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27D07-A243-45C0-B60A-13C8C28D2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F0387-0A6A-4201-B362-FBE9516AD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9E227-B3EC-4ED2-8B12-7D2B52488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730D9-3C51-43C9-B01A-F18D21A92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90A1-C5DD-493E-9367-1DF59F424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B53D9-3D0D-4115-94F4-2C93C8A3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6F979-E035-469A-BA2A-A361A8DA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F58F6-3765-4867-BF06-0AC781775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C7488-E17F-4E29-A111-C4663F7EF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36615-0FD6-451F-8D9C-BF3830386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FDF7-BF48-4EC8-93AF-DFF482FEF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44B4-86CA-40C9-A228-7F91B271A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B1AD-E02F-454A-BF37-C8CC99EE5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C02A-112F-49CC-9927-588177C76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4021-2379-402F-8546-18ADFD21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0F8F-5F93-4457-9D0C-D2CB4D353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5014-B1AB-462A-B04F-07D705C6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277D2-D499-4382-AC6A-6E810E0151CE}" type="slidenum">
              <a:rPr b="0" lang="pl-PL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4C067-20A1-430E-B0AB-9DCB0616AA05}" type="slidenum">
              <a:rPr b="0" lang="pl-PL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podroze7.html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podroze7.html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podroze7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podroze.html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podroze.html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podroze7.html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oje podróż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743200" y="5734080"/>
            <a:ext cx="64008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uropa i Polska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 advTm="4000">
    <p:cover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446256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zęstochow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1" name="" descr="[Rozmiar: 9095 bajtów]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1892160"/>
            <a:ext cx="7524720" cy="49658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649400" y="19810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Kraków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4" name="" descr="[Rozmiar: 9095 bajtów]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89000"/>
            <a:ext cx="4888080" cy="640872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Ustk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6" name="" descr="[Rozmiar: 9095 bajtów]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000080"/>
            <a:ext cx="8136000" cy="585792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oje podróż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78920" y="1980720"/>
            <a:ext cx="8496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400" spc="-1" strike="noStrike">
                <a:solidFill>
                  <a:srgbClr val="ffcc00"/>
                </a:solidFill>
                <a:latin typeface="Arial Black"/>
              </a:rPr>
              <a:t>Czechy, Niemcy, Włochy, Lwów, Szwecja, Słowacja</a:t>
            </a:r>
            <a:endParaRPr b="0" lang="en-US" sz="3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85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400" spc="-1" strike="noStrike">
                <a:solidFill>
                  <a:srgbClr val="ffcc00"/>
                </a:solidFill>
                <a:latin typeface="Arial Black"/>
              </a:rPr>
              <a:t>Oraz Polskie miasta, </a:t>
            </a:r>
            <a:endParaRPr b="0" lang="en-US" sz="3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400" spc="-1" strike="noStrike">
                <a:solidFill>
                  <a:srgbClr val="ffcc00"/>
                </a:solidFill>
                <a:latin typeface="Arial Black"/>
              </a:rPr>
              <a:t>Z niektórych miast – zdjęcia</a:t>
            </a:r>
            <a:endParaRPr b="0" lang="en-US" sz="3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ffcc00"/>
                </a:solidFill>
                <a:latin typeface="Arial Black"/>
              </a:rPr>
              <a:t>*Z powodu pojemości – ograniczyłem ilość zdjęć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 advTm="4000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95280" y="5395680"/>
            <a:ext cx="7772400" cy="1461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zech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5" name="" descr="[Rozmiar: 9095 bajtów]"/>
          <p:cNvPicPr/>
          <p:nvPr/>
        </p:nvPicPr>
        <p:blipFill>
          <a:blip r:embed="rId1"/>
          <a:stretch/>
        </p:blipFill>
        <p:spPr>
          <a:xfrm>
            <a:off x="0" y="0"/>
            <a:ext cx="9144000" cy="603396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Niemcy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181400" y="0"/>
            <a:ext cx="49626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Rzym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9" name="" descr="[Rozmiar: 9095 bajtów]"/>
          <p:cNvPicPr/>
          <p:nvPr/>
        </p:nvPicPr>
        <p:blipFill>
          <a:blip r:embed="rId1"/>
          <a:stretch/>
        </p:blipFill>
        <p:spPr>
          <a:xfrm>
            <a:off x="0" y="1177920"/>
            <a:ext cx="8604360" cy="56800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cover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wów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1" name="" descr="[Rozmiar: 9095 bajtów]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268280"/>
            <a:ext cx="7380360" cy="53136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763280" y="6165360"/>
            <a:ext cx="60087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zwecja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4" name="" descr="[Rozmiar: 9095 bajtów]"/>
          <p:cNvPicPr/>
          <p:nvPr/>
        </p:nvPicPr>
        <p:blipFill>
          <a:blip r:embed="rId1"/>
          <a:srcRect l="4323" t="0" r="0" b="6340"/>
          <a:stretch/>
        </p:blipFill>
        <p:spPr>
          <a:xfrm>
            <a:off x="395280" y="0"/>
            <a:ext cx="8748720" cy="616572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048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Słowacja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7" name="" descr="[Rozmiar: 9095 bajtów]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06520"/>
            <a:ext cx="8820000" cy="63514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cut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79280" y="522900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Gdańsk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9" name="" descr="[Rozmiar: 9095 bajtów]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0"/>
            <a:ext cx="8459640" cy="558324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cover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2T18:50:42Z</dcterms:created>
  <dc:creator>x</dc:creator>
  <dc:description/>
  <dc:language>en-US</dc:language>
  <cp:lastModifiedBy>x</cp:lastModifiedBy>
  <dcterms:modified xsi:type="dcterms:W3CDTF">2007-01-03T18:34:35Z</dcterms:modified>
  <cp:revision>17</cp:revision>
  <dc:subject/>
  <dc:title>Moje podróże</dc:title>
</cp:coreProperties>
</file>