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BA74-D200-4B54-8C6C-7479BE8B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F81F-CA2F-4A73-BA2E-528417BA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3C77-E4D5-48B7-84E5-726B1C14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6637-4330-4E46-900E-4F369965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C8A6-3646-4CC3-9338-06C80F72B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64ED-F2C2-41E8-94B5-5357753C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778E-C0DA-4E82-B969-4E9BD958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05A0-6D74-4549-B588-612EA7A5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D58D-9057-40B4-B754-0B55C73F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16D3-19B2-43AA-B2BA-A9AC5759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56D7-BECC-4F06-8829-32944EF2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6496-E0F5-4318-B225-E7D4E6B2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BC70-2322-40C0-809D-8D65ED92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47CB-A14F-4A43-9888-05EB1DEB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ABDA-4A41-484C-B06A-DB94B708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0E87-1AF1-4502-84E3-E9FC1509E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2533-5C9F-487C-84D7-993A2F7FB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DC20-0413-4D4A-B451-EB99D6EF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6BDC-942A-40D1-8832-D69515A4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1686-450D-465E-911C-5409B6D0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3593-F2B3-4992-8C3C-4DCEA333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C9AB-EF67-44A1-A242-E0C42AF6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C147-A651-4CE4-9358-23C8FC22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A223-441E-4335-8B64-5653BBF9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9AB2-DB1D-42E0-BC3F-6DEE2F21DE91}" type="slidenum">
              <a:rPr b="0" lang="pl-PL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22A8-61AF-470A-830F-8BC79312CDB8}" type="slidenum">
              <a:rPr b="0" lang="pl-PL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podroze7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podroze7.html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podroze7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podroze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podroze.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podroze7.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oje podróż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743200" y="5734080"/>
            <a:ext cx="64008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uropa i Polsk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4000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44625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zęstochow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1" name="" descr="[Rozmiar: 9095 bajtów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892160"/>
            <a:ext cx="7524720" cy="49658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Kraków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4" name="" descr="[Rozmiar: 9095 bajtów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89000"/>
            <a:ext cx="4888080" cy="64087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Ustk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6" name="" descr="[Rozmiar: 9095 bajtów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000080"/>
            <a:ext cx="8136000" cy="5857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oje podróż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496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400" spc="-1" strike="noStrike">
                <a:solidFill>
                  <a:srgbClr val="ffcc00"/>
                </a:solidFill>
                <a:latin typeface="Arial Black"/>
              </a:rPr>
              <a:t>Czechy, Niemcy, Włochy, Lwów, Szwecja, Słowacja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8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400" spc="-1" strike="noStrike">
                <a:solidFill>
                  <a:srgbClr val="ffcc00"/>
                </a:solidFill>
                <a:latin typeface="Arial Black"/>
              </a:rPr>
              <a:t>Oraz Polskie miasta, 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400" spc="-1" strike="noStrike">
                <a:solidFill>
                  <a:srgbClr val="ffcc00"/>
                </a:solidFill>
                <a:latin typeface="Arial Black"/>
              </a:rPr>
              <a:t>Z niektórych miast – zdjęcia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ffcc00"/>
                </a:solidFill>
                <a:latin typeface="Arial Black"/>
              </a:rPr>
              <a:t>*Z powodu pojemości – ograniczyłem ilość zdjęć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4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5395680"/>
            <a:ext cx="7772400" cy="146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zech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5" name="" descr="[Rozmiar: 9095 bajtów]"/>
          <p:cNvPicPr/>
          <p:nvPr/>
        </p:nvPicPr>
        <p:blipFill>
          <a:blip r:embed="rId1"/>
          <a:stretch/>
        </p:blipFill>
        <p:spPr>
          <a:xfrm>
            <a:off x="0" y="0"/>
            <a:ext cx="9144000" cy="60339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Niemc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181400" y="0"/>
            <a:ext cx="49626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zy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9" name="" descr="[Rozmiar: 9095 bajtów]"/>
          <p:cNvPicPr/>
          <p:nvPr/>
        </p:nvPicPr>
        <p:blipFill>
          <a:blip r:embed="rId1"/>
          <a:stretch/>
        </p:blipFill>
        <p:spPr>
          <a:xfrm>
            <a:off x="0" y="1177920"/>
            <a:ext cx="8604360" cy="56800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wów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1" name="" descr="[Rozmiar: 9095 bajtów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268280"/>
            <a:ext cx="7380360" cy="53136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763280" y="6165360"/>
            <a:ext cx="60087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zwecja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4" name="" descr="[Rozmiar: 9095 bajtów]"/>
          <p:cNvPicPr/>
          <p:nvPr/>
        </p:nvPicPr>
        <p:blipFill>
          <a:blip r:embed="rId1"/>
          <a:srcRect l="4323" t="0" r="0" b="6340"/>
          <a:stretch/>
        </p:blipFill>
        <p:spPr>
          <a:xfrm>
            <a:off x="395280" y="0"/>
            <a:ext cx="8748720" cy="61657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048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łowacja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7" name="" descr="[Rozmiar: 9095 bajtów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06520"/>
            <a:ext cx="8820000" cy="63514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79280" y="522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dańs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9" name="" descr="[Rozmiar: 9095 bajtów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0"/>
            <a:ext cx="8459640" cy="55832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2T18:50:42Z</dcterms:created>
  <dc:creator>x</dc:creator>
  <dc:description/>
  <dc:language>en-US</dc:language>
  <cp:lastModifiedBy>x</cp:lastModifiedBy>
  <dcterms:modified xsi:type="dcterms:W3CDTF">2007-01-03T18:34:35Z</dcterms:modified>
  <cp:revision>17</cp:revision>
  <dc:subject/>
  <dc:title>Moje podróże</dc:title>
</cp:coreProperties>
</file>