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10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9FF7-08DE-4B9D-978D-FBDCA7D5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68FA-CBC9-44E1-A26A-2D681F23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FAD-898A-454E-89AB-DDFDB249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2E2-97CD-4869-B868-217A8497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B38C-6050-449F-A296-DF1194BA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1823-83AA-406D-B2B3-7A413E9E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A11D-6316-4A6B-9583-0E97514C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7FA9-DA0F-429A-8F9F-00E91096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88F6-3BF6-471E-AD87-3BD3776E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D78D-08F9-4E58-B765-507D5271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BBC5-298F-4C53-91AA-333F3412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CB2-2D84-4F3C-927A-A01BCDFB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258B-88B7-49FB-AA96-BC9DD0F6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9EB4-50A8-4340-8CE4-A18CAD03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D569-50BE-48AA-B588-99D9D6EB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F346-A373-4654-8656-3AF09078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B2F5-7CD1-45D0-AC48-6EEEECB2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75C-2E9C-4013-90CC-D3C9DFB6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F45-EE7F-43A7-B600-5B097923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F95-A6D5-4AC9-8432-C01857AA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9FA-A587-4FE2-B8B0-91BD9ED2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A725-414E-45B6-A346-D1FA7F36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706-A052-4BFB-A2E6-9F549D7E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297-D3E6-47DA-A346-07A85331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F46F-A8B1-46D0-BECF-87CBA7FADE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4072-E57C-413A-830D-E4FCB14BEE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mojahera.fm.interia.pl/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meblogr.xt.pl/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instalatorstworb.xt.pl/" TargetMode="External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4000" y="1904760"/>
            <a:ext cx="496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Nazywam się Paweł, mam 30 lat. Jestem osobą niepełnosprawną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(porażenie dziecięce), ale całkowicie samodzielną. Mieszkam w Wejherowie i lubię swoje miasto. Interesuję się komputerem, lubię oglądać filmy, chodzić na spacery do miasta i do stadniny. Lubię zwierzęta, głównie konie, psy i moją małą czarną króliczkę o imieniu Hera, która już ma 8 lat, udaje groźnego zwierzaczka, ale to mały pieszczoch. Lato spędzam nad jeziorem Choczewskim, lubię pływać i jeździć na rowerze. Jestem wolnym słuchaczem psychologii na uczelni SWPS w Sopoci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404640"/>
            <a:ext cx="84960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ec2b8"/>
                </a:solidFill>
                <a:latin typeface="Arial Black"/>
              </a:rPr>
              <a:t>Całkiem Sprawny Niepełnospraw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[Rozmiar: 9095 bajtów]"/>
          <p:cNvPicPr/>
          <p:nvPr/>
        </p:nvPicPr>
        <p:blipFill>
          <a:blip r:embed="rId1"/>
          <a:stretch/>
        </p:blipFill>
        <p:spPr>
          <a:xfrm>
            <a:off x="5508720" y="1916280"/>
            <a:ext cx="3209760" cy="40338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Moja przygoda z komputerem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502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ja przygoda z komputerem zaczęła się już w szkole podstawowej, gdyż w ósmej klasie chodziłem na kółko informatyczne. Na początku oczywiście trochę grałem w gry, ale szybko zainteresowałem się pisaniem programów w języku BASIC. W szkole średniej (Liceum Ekonomiczne w Konstancinie) miałem aż 4 godz. informatyki tygodniowo. Ukończyłem również kurs "Tworzenie grafiki przy użyciu programu Designer" zorganizowanym przez Komputerowe P.H.U. "MR.JUG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Wykształcenie, szkolenia i kursy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Mam wykształcenie średnie. W latach 1991 – 1995 ukończyłem Liceum Zawodowe o profilu: pracownik administracyjno-biurowy w Konstancini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17.05.2005 – ukończyłem kurs w zakresie „Projektowanie stron internetowych w języku HTML”  uzyskując ocenę bardzo dobr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16.09.2004 – uczestniczyłem w warsztatach interaktywnych „Internet jako źródło pracy, wiedzy          i pieniędz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18.04.1996 – ukończyłem kurs komputerowy „Tworzenie grafiki przy użyciu Corel Draw i Designer” Zorganizowane przez Komputerowe P.H.U. MR JUG w Wejherow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5000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rafię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00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Projektowanie stron ww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Projektowanie banerów (j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i ruchome (gif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Przepisywanie tekst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Projektowanie wizytówek                      i małych kalendarz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Prezentacj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Obsługa kse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Obsługa skane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gramy które poznał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1905120"/>
          <a:ext cx="3929040" cy="2041560"/>
        </p:xfrm>
        <a:graphic>
          <a:graphicData uri="http://schemas.openxmlformats.org/drawingml/2006/table">
            <a:tbl>
              <a:tblPr/>
              <a:tblGrid>
                <a:gridCol w="1965600"/>
                <a:gridCol w="1963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tml</a:t>
                      </a: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jącze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obe Photoshop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G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916520" y="1905120"/>
          <a:ext cx="3929040" cy="3035160"/>
        </p:xfrm>
        <a:graphic>
          <a:graphicData uri="http://schemas.openxmlformats.org/drawingml/2006/table">
            <a:tbl>
              <a:tblPr/>
              <a:tblGrid>
                <a:gridCol w="1965240"/>
                <a:gridCol w="19638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ign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 Perfec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on Commander</a:t>
                      </a: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writ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838080" y="4070520"/>
          <a:ext cx="3929040" cy="2025360"/>
        </p:xfrm>
        <a:graphic>
          <a:graphicData uri="http://schemas.openxmlformats.org/drawingml/2006/table">
            <a:tbl>
              <a:tblPr/>
              <a:tblGrid>
                <a:gridCol w="1965600"/>
                <a:gridCol w="196344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ow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ola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vie Mack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el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916520" y="4070520"/>
          <a:ext cx="3929040" cy="2025360"/>
        </p:xfrm>
        <a:graphic>
          <a:graphicData uri="http://schemas.openxmlformats.org/drawingml/2006/table">
            <a:tbl>
              <a:tblPr/>
              <a:tblGrid>
                <a:gridCol w="1965240"/>
                <a:gridCol w="19638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 Poin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el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tur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7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b7"/>
                </a:solidFill>
                <a:latin typeface="Arial Black"/>
              </a:rPr>
              <a:t>Banery jpg i gif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476520" cy="942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Moja He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1628640"/>
            <a:ext cx="3895560" cy="1152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Meble Ogrodowe z Borów Tucholskich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2997360"/>
            <a:ext cx="461952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INSTALATORSTWO WOD-KAN Roman Bujak.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4508640"/>
            <a:ext cx="4628880" cy="981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Suchodolska Olga - informacje"/>
          <p:cNvPicPr/>
          <p:nvPr/>
        </p:nvPicPr>
        <p:blipFill>
          <a:blip r:embed="rId8"/>
          <a:stretch/>
        </p:blipFill>
        <p:spPr>
          <a:xfrm>
            <a:off x="5003640" y="3357720"/>
            <a:ext cx="3857760" cy="82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JezusJest Tu"/>
          <p:cNvPicPr/>
          <p:nvPr/>
        </p:nvPicPr>
        <p:blipFill>
          <a:blip r:embed="rId9"/>
          <a:stretch/>
        </p:blipFill>
        <p:spPr>
          <a:xfrm>
            <a:off x="5508720" y="4437000"/>
            <a:ext cx="2981160" cy="647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Konie Gosi Gordziej."/>
          <p:cNvPicPr/>
          <p:nvPr/>
        </p:nvPicPr>
        <p:blipFill>
          <a:blip r:embed="rId10"/>
          <a:stretch/>
        </p:blipFill>
        <p:spPr>
          <a:xfrm>
            <a:off x="5364000" y="5300640"/>
            <a:ext cx="283860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izytówk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Nauka"/>
          <p:cNvPicPr/>
          <p:nvPr/>
        </p:nvPicPr>
        <p:blipFill>
          <a:blip r:embed="rId1"/>
          <a:stretch/>
        </p:blipFill>
        <p:spPr>
          <a:xfrm>
            <a:off x="2268360" y="2421000"/>
            <a:ext cx="5562720" cy="308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je podróże zagraniczn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9880" y="1905120"/>
          <a:ext cx="3924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905120"/>
                    <a:ext cx="392436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zec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em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zy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wó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wec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łowac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Podroze"/>
          <p:cNvPicPr/>
          <p:nvPr/>
        </p:nvPicPr>
        <p:blipFill>
          <a:blip r:embed="rId3"/>
          <a:stretch/>
        </p:blipFill>
        <p:spPr>
          <a:xfrm>
            <a:off x="1042920" y="198900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Podroze"/>
          <p:cNvPicPr/>
          <p:nvPr/>
        </p:nvPicPr>
        <p:blipFill>
          <a:blip r:embed="rId4"/>
          <a:stretch/>
        </p:blipFill>
        <p:spPr>
          <a:xfrm>
            <a:off x="1332000" y="2997360"/>
            <a:ext cx="666720" cy="952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Podroze"/>
          <p:cNvPicPr/>
          <p:nvPr/>
        </p:nvPicPr>
        <p:blipFill>
          <a:blip r:embed="rId5"/>
          <a:stretch/>
        </p:blipFill>
        <p:spPr>
          <a:xfrm>
            <a:off x="1042920" y="4005360"/>
            <a:ext cx="1476360" cy="952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Podroze"/>
          <p:cNvPicPr/>
          <p:nvPr/>
        </p:nvPicPr>
        <p:blipFill>
          <a:blip r:embed="rId6"/>
          <a:stretch/>
        </p:blipFill>
        <p:spPr>
          <a:xfrm>
            <a:off x="971640" y="5229360"/>
            <a:ext cx="1476360" cy="952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Podroze"/>
          <p:cNvPicPr/>
          <p:nvPr/>
        </p:nvPicPr>
        <p:blipFill>
          <a:blip r:embed="rId7"/>
          <a:stretch/>
        </p:blipFill>
        <p:spPr>
          <a:xfrm>
            <a:off x="2771640" y="2637000"/>
            <a:ext cx="1476360" cy="952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odroze"/>
          <p:cNvPicPr/>
          <p:nvPr/>
        </p:nvPicPr>
        <p:blipFill>
          <a:blip r:embed="rId8"/>
          <a:stretch/>
        </p:blipFill>
        <p:spPr>
          <a:xfrm>
            <a:off x="2916360" y="4508640"/>
            <a:ext cx="1476360" cy="952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ja muzy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215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Słucham różnych rodzajów muzyki: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op (The Beatles, Marilyn Monroe, The Platters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muzyka poważna (Fryderyk Chopin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muzyka operowa (Luciano Pavarotti, Placido Domingo, Ada Sari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jazz (Louis Amstrong, Glenn Miller) 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Z Polskiej muzyki, moimi ulubionymi wykonawcami sa: 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Grzegorz Turnau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ierwszą płytą Grzegorza Turnaua, którą miałem była "To tu to tam", a pierwszą piosenkę którą usłyszałem z tej płyty to "Linoskoczek" i od tego momentu polubiłem jego muzykę. Fajną piosenką jest także "Bracka" do której nakręcono teledysk. Teraz mam wszystkie jego płyty. 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Edyta Bartosiewicz 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Wydała płyte "Dziecko", tę płyte mam w swojej kolekcji, Ulubionymi piosenkam z tej płyty są "Jenny" i "Skłamałam". Teledysk do piosenki "Skłamałam" był nakręcony jako jedno ujęcie. 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3:52:27Z</dcterms:created>
  <dc:creator>x</dc:creator>
  <dc:description/>
  <dc:language>en-US</dc:language>
  <cp:lastModifiedBy>x</cp:lastModifiedBy>
  <dcterms:modified xsi:type="dcterms:W3CDTF">2006-12-14T20:09:01Z</dcterms:modified>
  <cp:revision>33</cp:revision>
  <dc:subject/>
  <dc:title>Całkiem Sprawny Niepełnosprawny</dc:title>
</cp:coreProperties>
</file>