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D1B-8E91-4126-8027-DF13351B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B77-C51F-4EF2-8457-F17C421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E7A-E3CF-42E7-98BD-78F1FB41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F97-88AC-4B69-8839-2FF69FE0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A44E-58DD-440C-813C-E6C615CA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7E24-7F3E-4497-B083-FE14DF5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F04A-825B-46CA-97F7-EBD4E4C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97A8-9843-4921-A674-C828C50B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BCBD-C744-4F8A-AF6F-CC8E7EE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73E-EDB8-459C-8E5D-CD81D61C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E746-D709-4D79-9081-183379D0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309-4425-4020-95EF-FF8DB6F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71B-DA60-4704-A5F0-DC85BF80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6096-6708-4E83-8652-7D6334B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4B5C-9012-44E1-BD0A-908C4473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8480-B4B1-464C-BBA3-4387E064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51DD-34D1-46D3-9F65-F265F2A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2D6-8624-4BDF-9BF9-75D77EF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D77-3C5F-44C4-8A33-2FB0A59A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DC2-7554-45E2-B676-FB74A638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AA7-7780-4283-B75A-888CB12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F7D-A545-4DAE-8952-23320D5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8BF-7201-478D-B839-8AC148B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7EB-059B-4657-BA83-D1600768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56C-D114-4609-B0A9-0DEBDFB492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69CB-855A-4388-B5F3-E52CE9230C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mojahera.fm.interia.pl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meblogr.xt.pl/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instalatorstworb.xt.pl/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904760"/>
            <a:ext cx="496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zywam się Paweł, mam 30 lat. Jestem osobą niepełnosprawną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porażenie dziecięce), ale całkowicie samodzielną. Mieszkam w Wejherowie i lubię swoje miasto. Interesuję się komputerem, lubię oglądać filmy, chodzić na spacery do miasta i do stadniny. Lubię zwierzęta, głównie konie, psy i moją małą czarną króliczkę o imieniu Hera, która już ma 8 lat, udaje groźnego zwierzaczka, ale to mały pieszczoch. Lato spędzam nad jeziorem Choczewskim, lubię pływać i jeździć na rowerze. Jestem wolnym słuchaczem psychologii na uczelni SWPS w Sopoci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404640"/>
            <a:ext cx="8496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c2b8"/>
                </a:solidFill>
                <a:latin typeface="Arial Black"/>
              </a:rPr>
              <a:t>Całkiem Sprawny Niepełnospraw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[Rozmiar: 9095 bajtów]"/>
          <p:cNvPicPr/>
          <p:nvPr/>
        </p:nvPicPr>
        <p:blipFill>
          <a:blip r:embed="rId1"/>
          <a:stretch/>
        </p:blipFill>
        <p:spPr>
          <a:xfrm>
            <a:off x="5508720" y="1916280"/>
            <a:ext cx="3209760" cy="4033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oja przygoda z komputerem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02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ja przygoda z komputerem zaczęła się już w szkole podstawowej, gdyż w ósmej klasie chodziłem na kółko informatyczne. Na początku oczywiście trochę grałem w gry, ale szybko zainteresowałem się pisaniem programów w języku BASIC. W szkole średniej (Liceum Ekonomiczne w Konstancinie) miałem aż 4 godz. informatyki tygodniowo. Ukończyłem również kurs "Tworzenie grafiki przy użyciu programu Designer" zorganizowanym przez Komputerowe P.H.U. "MR.JUG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Wykształcenie, szkolenia i kurs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Mam wykształcenie średnie. W latach 1991 – 1995 ukończyłem Liceum Zawodowe o profilu: pracownik administracyjno-biurowy w Konstancin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7.05.2005 – ukończyłem kurs w zakresie „Projektowanie stron internetowych w języku HTML”  uzyskując ocenę bardzo dobr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6.09.2004 – uczestniczyłem w warsztatach interaktywnych „Internet jako źródło pracy, wiedzy          i pieniędz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18.04.1996 – ukończyłem kurs komputerowy „Tworzenie grafiki przy użyciu Corel Draw i Designer” Zorganizowane przez Komputerowe P.H.U. MR JUG w Wejherow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5000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rafię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ojektowanie stron ww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ojektowanie banerów (j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i ruchome (gif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zepisywanie teks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ojektowanie wizytówek                      i małych kalendarz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Prezentac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Obsługa ks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Obsługa skane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gramy które poznał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3929040" cy="204156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ml</a:t>
                      </a: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jącze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Photoshop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916520" y="1905120"/>
          <a:ext cx="3929040" cy="3035160"/>
        </p:xfrm>
        <a:graphic>
          <a:graphicData uri="http://schemas.openxmlformats.org/drawingml/2006/table">
            <a:tbl>
              <a:tblPr/>
              <a:tblGrid>
                <a:gridCol w="1965240"/>
                <a:gridCol w="1963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 Perfec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on Commander</a:t>
                      </a: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writ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38080" y="4070520"/>
          <a:ext cx="3929040" cy="2025360"/>
        </p:xfrm>
        <a:graphic>
          <a:graphicData uri="http://schemas.openxmlformats.org/drawingml/2006/table">
            <a:tbl>
              <a:tblPr/>
              <a:tblGrid>
                <a:gridCol w="1965600"/>
                <a:gridCol w="196344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ola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vie Macke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l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16520" y="4070520"/>
          <a:ext cx="3929040" cy="2025360"/>
        </p:xfrm>
        <a:graphic>
          <a:graphicData uri="http://schemas.openxmlformats.org/drawingml/2006/table">
            <a:tbl>
              <a:tblPr/>
              <a:tblGrid>
                <a:gridCol w="1965240"/>
                <a:gridCol w="1963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Poin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ur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7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b7"/>
                </a:solidFill>
                <a:latin typeface="Arial Black"/>
              </a:rPr>
              <a:t>Banery jpg i gi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765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Moja He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628640"/>
            <a:ext cx="3895560" cy="11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Meble Ogrodowe z Borów Tucholski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997360"/>
            <a:ext cx="461952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INSTALATORSTWO WOD-KAN Roman Bujak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4508640"/>
            <a:ext cx="462888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uchodolska Olga - informacje"/>
          <p:cNvPicPr/>
          <p:nvPr/>
        </p:nvPicPr>
        <p:blipFill>
          <a:blip r:embed="rId8"/>
          <a:stretch/>
        </p:blipFill>
        <p:spPr>
          <a:xfrm>
            <a:off x="5003640" y="3357720"/>
            <a:ext cx="3857760" cy="82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JezusJest Tu"/>
          <p:cNvPicPr/>
          <p:nvPr/>
        </p:nvPicPr>
        <p:blipFill>
          <a:blip r:embed="rId9"/>
          <a:stretch/>
        </p:blipFill>
        <p:spPr>
          <a:xfrm>
            <a:off x="5508720" y="4437000"/>
            <a:ext cx="2981160" cy="64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Konie Gosi Gordziej."/>
          <p:cNvPicPr/>
          <p:nvPr/>
        </p:nvPicPr>
        <p:blipFill>
          <a:blip r:embed="rId10"/>
          <a:stretch/>
        </p:blipFill>
        <p:spPr>
          <a:xfrm>
            <a:off x="5364000" y="5300640"/>
            <a:ext cx="283860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zytówk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Nauka"/>
          <p:cNvPicPr/>
          <p:nvPr/>
        </p:nvPicPr>
        <p:blipFill>
          <a:blip r:embed="rId1"/>
          <a:stretch/>
        </p:blipFill>
        <p:spPr>
          <a:xfrm>
            <a:off x="2268360" y="2421000"/>
            <a:ext cx="5562720" cy="308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je podróże zagraniczn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9880" y="1905120"/>
          <a:ext cx="3924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905120"/>
                    <a:ext cx="39243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e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m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zy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wó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wec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łowac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Podroze"/>
          <p:cNvPicPr/>
          <p:nvPr/>
        </p:nvPicPr>
        <p:blipFill>
          <a:blip r:embed="rId3"/>
          <a:stretch/>
        </p:blipFill>
        <p:spPr>
          <a:xfrm>
            <a:off x="1042920" y="19890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Podroze"/>
          <p:cNvPicPr/>
          <p:nvPr/>
        </p:nvPicPr>
        <p:blipFill>
          <a:blip r:embed="rId4"/>
          <a:stretch/>
        </p:blipFill>
        <p:spPr>
          <a:xfrm>
            <a:off x="1332000" y="2997360"/>
            <a:ext cx="666720" cy="952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Podroze"/>
          <p:cNvPicPr/>
          <p:nvPr/>
        </p:nvPicPr>
        <p:blipFill>
          <a:blip r:embed="rId5"/>
          <a:stretch/>
        </p:blipFill>
        <p:spPr>
          <a:xfrm>
            <a:off x="1042920" y="4005360"/>
            <a:ext cx="14763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Podroze"/>
          <p:cNvPicPr/>
          <p:nvPr/>
        </p:nvPicPr>
        <p:blipFill>
          <a:blip r:embed="rId6"/>
          <a:stretch/>
        </p:blipFill>
        <p:spPr>
          <a:xfrm>
            <a:off x="971640" y="5229360"/>
            <a:ext cx="1476360" cy="952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Podroze"/>
          <p:cNvPicPr/>
          <p:nvPr/>
        </p:nvPicPr>
        <p:blipFill>
          <a:blip r:embed="rId7"/>
          <a:stretch/>
        </p:blipFill>
        <p:spPr>
          <a:xfrm>
            <a:off x="2771640" y="2637000"/>
            <a:ext cx="1476360" cy="952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odroze"/>
          <p:cNvPicPr/>
          <p:nvPr/>
        </p:nvPicPr>
        <p:blipFill>
          <a:blip r:embed="rId8"/>
          <a:stretch/>
        </p:blipFill>
        <p:spPr>
          <a:xfrm>
            <a:off x="2916360" y="4508640"/>
            <a:ext cx="1476360" cy="952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ja muzy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21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łucham różnych rodzajów muzyki: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p (The Beatles, Marilyn Monroe, The Platter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muzyka poważna (Fryderyk Chopi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muzyka operowa (Luciano Pavarotti, Placido Domingo, Ada Sari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jazz (Louis Amstrong, Glenn Miller)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Z Polskiej muzyki, moimi ulubionymi wykonawcami sa: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Grzegorz Turnau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ierwszą płytą Grzegorza Turnaua, którą miałem była "To tu to tam", a pierwszą piosenkę którą usłyszałem z tej płyty to "Linoskoczek" i od tego momentu polubiłem jego muzykę. Fajną piosenką jest także "Bracka" do której nakręcono teledysk. Teraz mam wszystkie jego płyty.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Edyta Bartosiewicz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ydała płyte "Dziecko", tę płyte mam w swojej kolekcji, Ulubionymi piosenkam z tej płyty są "Jenny" i "Skłamałam". Teledysk do piosenki "Skłamałam" był nakręcony jako jedno ujęcie.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3:52:27Z</dcterms:created>
  <dc:creator>x</dc:creator>
  <dc:description/>
  <dc:language>en-US</dc:language>
  <cp:lastModifiedBy>x</cp:lastModifiedBy>
  <dcterms:modified xsi:type="dcterms:W3CDTF">2006-12-14T20:09:01Z</dcterms:modified>
  <cp:revision>33</cp:revision>
  <dc:subject/>
  <dc:title>Całkiem Sprawny Niepełnosprawny</dc:title>
</cp:coreProperties>
</file>